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377-3A31-42CA-A290-A6E5C053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CFA-D347-406F-9CAB-F70FBE8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434-56D2-418A-B127-E2708AFC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40D-CDB9-485F-A138-AD32F4E3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276-3397-4AF1-8E38-F8F13DBA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E1A-CF4D-483D-9AC1-A633A71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5DE-3B9E-4558-A0B5-8C1BF231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8DE-4D34-422D-ACFE-551FAD1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58B-EF27-48FD-9680-8880DC0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310-AAE3-4A10-892F-75C1109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CBC-F33B-47EA-B472-18D0E02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572-9EA6-4AAE-8AFC-DEB57A5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C5129-3C75-4D64-8674-C0E876968DB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951E6-C21B-4E52-A4FE-AF8CDF5C80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2400" y="1179000"/>
            <a:ext cx="3351240" cy="445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ldilocks and the Three Bea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927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21a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os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upon a time, there was a little girl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.went for a walk in woods...found a house.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ars go for a walk- little girl is walking through the wo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l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 a house knocked...no one was home, walked right in..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ldilocks starts eating the porridge, sitting in the chairs, sleeps in the b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ears find all their food ate, chairs sat in, and go to look at their b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ma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by bear sees Goldilocks sleeping in his b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lling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ldilocks woke up, jumped and ran from the ho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ou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ver came back to the home of the three be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y End of thy best story in the wor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9:09:22Z</dcterms:created>
  <dc:creator>Aly Wood</dc:creator>
  <dc:description/>
  <dc:language>en-US</dc:language>
  <cp:lastModifiedBy>Aly Wood</cp:lastModifiedBy>
  <dcterms:modified xsi:type="dcterms:W3CDTF">2009-12-03T19:18:18Z</dcterms:modified>
  <cp:revision>3</cp:revision>
  <dc:subject/>
  <dc:title>Goldilocks and the Three Bears</dc:title>
</cp:coreProperties>
</file>